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0558-315A-4BA7-8AE7-43F717F0170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投影片編號版面配置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FD3-8750-4C88-929D-B028B1B8AD2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219-20B7-48E5-81CC-F707058F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AF5-AF56-43A7-AFDF-9B4A11A4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CC6-C156-482B-A1C7-7260DFBA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6E4-6B95-405C-B6C1-080E09EF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4400" y="-141480"/>
            <a:ext cx="65739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7E3-AE52-4A6A-A1AF-DCD576B6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B39-A7FC-4511-B6BE-AD859B0C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3AE-31DA-4258-BF39-27595FE6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627-9525-459D-AED7-9FD49958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74400" y="-141480"/>
            <a:ext cx="65739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818-EE1B-4312-AEE9-52A8F56D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42F-6373-4DBE-93A4-51FD7DCE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54A-FF2D-47E3-91F2-9C68521E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710-2691-4AC8-A580-F7351FB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215040"/>
            <a:ext cx="5724360" cy="642960"/>
          </a:xfrm>
          <a:prstGeom prst="rect">
            <a:avLst/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pic5"/>
          <p:cNvPicPr/>
          <p:nvPr/>
        </p:nvPicPr>
        <p:blipFill>
          <a:blip r:embed="rId2"/>
          <a:stretch/>
        </p:blipFill>
        <p:spPr>
          <a:xfrm>
            <a:off x="0" y="6429240"/>
            <a:ext cx="2928960" cy="4287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009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pic3"/>
          <p:cNvPicPr/>
          <p:nvPr/>
        </p:nvPicPr>
        <p:blipFill>
          <a:blip r:embed="rId3"/>
          <a:srcRect l="0" t="5717" r="37404" b="77551"/>
          <a:stretch/>
        </p:blipFill>
        <p:spPr>
          <a:xfrm>
            <a:off x="8075520" y="0"/>
            <a:ext cx="10684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-36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7164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27640" y="6453360"/>
            <a:ext cx="10191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498F-E7CC-4ED0-ABC7-15A5B068A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8"/>
          <p:cNvGrpSpPr/>
          <p:nvPr/>
        </p:nvGrpSpPr>
        <p:grpSpPr>
          <a:xfrm>
            <a:off x="47520" y="0"/>
            <a:ext cx="2088720" cy="642960"/>
            <a:chOff x="47520" y="0"/>
            <a:chExt cx="2088720" cy="642960"/>
          </a:xfrm>
        </p:grpSpPr>
        <p:pic>
          <p:nvPicPr>
            <p:cNvPr id="10" name="Picture 9" descr="whtc"/>
            <p:cNvPicPr/>
            <p:nvPr/>
          </p:nvPicPr>
          <p:blipFill>
            <a:blip r:embed="rId4"/>
            <a:stretch/>
          </p:blipFill>
          <p:spPr>
            <a:xfrm>
              <a:off x="904320" y="26280"/>
              <a:ext cx="123192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0" descr="htc_light"/>
            <p:cNvPicPr/>
            <p:nvPr/>
          </p:nvPicPr>
          <p:blipFill>
            <a:blip r:embed="rId5"/>
            <a:stretch/>
          </p:blipFill>
          <p:spPr>
            <a:xfrm>
              <a:off x="47520" y="0"/>
              <a:ext cx="85680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2" descr="2009"/>
          <p:cNvPicPr/>
          <p:nvPr/>
        </p:nvPicPr>
        <p:blipFill>
          <a:blip r:embed="rId2"/>
          <a:srcRect l="16738" t="0" r="0" b="0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1"/>
          <p:cNvPicPr/>
          <p:nvPr/>
        </p:nvPicPr>
        <p:blipFill>
          <a:blip r:embed="rId3"/>
          <a:stretch/>
        </p:blipFill>
        <p:spPr>
          <a:xfrm>
            <a:off x="177840" y="59500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1"/>
          <p:cNvPicPr/>
          <p:nvPr/>
        </p:nvPicPr>
        <p:blipFill>
          <a:blip r:embed="rId4"/>
          <a:stretch/>
        </p:blipFill>
        <p:spPr>
          <a:xfrm>
            <a:off x="1114560" y="595008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1"/>
          <p:cNvPicPr/>
          <p:nvPr/>
        </p:nvPicPr>
        <p:blipFill>
          <a:blip r:embed="rId5"/>
          <a:stretch/>
        </p:blipFill>
        <p:spPr>
          <a:xfrm>
            <a:off x="2049480" y="59500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1"/>
          <p:cNvPicPr/>
          <p:nvPr/>
        </p:nvPicPr>
        <p:blipFill>
          <a:blip r:embed="rId6"/>
          <a:stretch/>
        </p:blipFill>
        <p:spPr>
          <a:xfrm>
            <a:off x="2986200" y="5950080"/>
            <a:ext cx="793800" cy="793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071800"/>
            <a:ext cx="807264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Arial"/>
              </a:rPr>
              <a:t>股票代號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:6208</a:t>
            </a:r>
            <a:br>
              <a:rPr sz="6000"/>
            </a:br>
            <a:r>
              <a:rPr b="1" lang="zh-TW" sz="6000" spc="-1" strike="noStrike">
                <a:solidFill>
                  <a:srgbClr val="ff0000"/>
                </a:solidFill>
                <a:latin typeface="Arial"/>
              </a:rPr>
              <a:t>日揚科技股份有限公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C-01"/>
          <p:cNvPicPr/>
          <p:nvPr/>
        </p:nvPicPr>
        <p:blipFill>
          <a:blip r:embed="rId1"/>
          <a:stretch/>
        </p:blipFill>
        <p:spPr>
          <a:xfrm>
            <a:off x="214200" y="1285920"/>
            <a:ext cx="2286000" cy="771480"/>
          </a:xfrm>
          <a:prstGeom prst="rect">
            <a:avLst/>
          </a:prstGeom>
          <a:ln w="0">
            <a:noFill/>
          </a:ln>
        </p:spPr>
      </p:pic>
      <p:sp>
        <p:nvSpPr>
          <p:cNvPr id="100" name="文字方塊 5"/>
          <p:cNvSpPr/>
          <p:nvPr/>
        </p:nvSpPr>
        <p:spPr>
          <a:xfrm>
            <a:off x="7286760" y="6215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 5 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5840" y="928800"/>
          <a:ext cx="8715240" cy="5735520"/>
        </p:xfrm>
        <a:graphic>
          <a:graphicData uri="http://schemas.openxmlformats.org/drawingml/2006/table">
            <a:tbl>
              <a:tblPr/>
              <a:tblGrid>
                <a:gridCol w="2349360"/>
                <a:gridCol w="1579680"/>
                <a:gridCol w="642960"/>
                <a:gridCol w="186984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9,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0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8,5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9,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6,7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,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3,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5,9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8,8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415,4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62,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2,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6,8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0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0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矩形 3"/>
          <p:cNvSpPr/>
          <p:nvPr/>
        </p:nvSpPr>
        <p:spPr>
          <a:xfrm>
            <a:off x="4006440" y="0"/>
            <a:ext cx="19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簡明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5840" y="928800"/>
          <a:ext cx="8501040" cy="507996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24,4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2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,4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增資員工認股選擇權酬勞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,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9,9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4,7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,93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7,68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29,18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短期借款及應付短期票券減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46,270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,91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增資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0,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增加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9,9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49,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矩形 3"/>
          <p:cNvSpPr/>
          <p:nvPr/>
        </p:nvSpPr>
        <p:spPr>
          <a:xfrm>
            <a:off x="3994560" y="0"/>
            <a:ext cx="22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64260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揚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歷年財務比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14200" y="1428840"/>
          <a:ext cx="8748720" cy="471492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    2002      2003     2004     2005     2006     2007     2008      2009      2010Q1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性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77%     259%    295%    269%    181%    160%    122%    111%    127%      226%  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速動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77%     162%    193%    164%    128%    113%      79%      63%     84%      142%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管理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週轉率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.20      3.02      2.89      3.62      4.56      3.00      6.36       3.84      2.76       3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資產週轉率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66      0.80      0.77      0.95      0.88      0.77      0.77       0.67      0.44       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管理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8.7%    25.8%   41.0%   41.3%   39.4%   40.6%   42.0%  41.9%    36.3%    2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息保障倍數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0.70     69.49     22.59    36.6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4.99    54.12    24.76     9.38     (3.58)      16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獲利性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毛利率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2.8%   34.5%   34.5%   33.0%    28.5%   29.3%   27.9%   28.8%   24.6%     3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資產報酬率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7.6%   14.5%   14.3%   15.4%    12.8%   10.7%    5.5%     3.4%    (1.9%)      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報酬率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9.6%   18.8%   21.1%   25.5%    20.8%   17.5%    8.9%     5.2%    (3.9%)    5.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股盈餘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82     1.84       2.08     2.79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.38       2.37      1.12      0.72      (0.51)       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124000" y="4076640"/>
            <a:ext cx="487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http://www.high-light.com.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987560" y="292428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aae8f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aae8f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4200" y="64260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ts val="3362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            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財務資訊摘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▓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09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因金融風暴影響，年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8.15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合併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10.66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首度出現小額虧損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EPS-0.51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▓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Q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2.35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較去年同期略為減少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5.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因產業逐漸復甦及主要客戶陸續提高資本支出計劃，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業績展望樂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14,6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356,6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14,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8,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,3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8,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1,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9,3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,9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8,6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6,80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7,52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7,83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1,1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6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,9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2,1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5,88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9,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7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0.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度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85840" y="928800"/>
          <a:ext cx="8715240" cy="5381640"/>
        </p:xfrm>
        <a:graphic>
          <a:graphicData uri="http://schemas.openxmlformats.org/drawingml/2006/table">
            <a:tbl>
              <a:tblPr/>
              <a:tblGrid>
                <a:gridCol w="2349360"/>
                <a:gridCol w="1363680"/>
                <a:gridCol w="644400"/>
                <a:gridCol w="208440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16,2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8,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2,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54,8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,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8,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66,4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81,4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69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65,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5,5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3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3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矩形 3"/>
          <p:cNvSpPr/>
          <p:nvPr/>
        </p:nvSpPr>
        <p:spPr>
          <a:xfrm>
            <a:off x="3223800" y="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度簡明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928800"/>
          <a:ext cx="8501040" cy="539748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90,3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5,88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4,3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按權益法認列之投資損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3,4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8,4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281,63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,63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73,99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20,16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舉借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0,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,479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贖回公司債價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28,51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理財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3,8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減少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11,439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1,20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矩形 3"/>
          <p:cNvSpPr/>
          <p:nvPr/>
        </p:nvSpPr>
        <p:spPr>
          <a:xfrm>
            <a:off x="3344040" y="0"/>
            <a:ext cx="3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度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66,3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13,8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09,7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311,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56,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2,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7,8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8,5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1,21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4,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5,6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6,38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6,84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7,7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5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,9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,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4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總純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純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4,89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,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0.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度合併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4200" y="949320"/>
          <a:ext cx="8715600" cy="5857920"/>
        </p:xfrm>
        <a:graphic>
          <a:graphicData uri="http://schemas.openxmlformats.org/drawingml/2006/table">
            <a:tbl>
              <a:tblPr/>
              <a:tblGrid>
                <a:gridCol w="2349720"/>
                <a:gridCol w="1650960"/>
                <a:gridCol w="642960"/>
                <a:gridCol w="179856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4,6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29,6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3,8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4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78,9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3,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43,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81,0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38,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8,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76,5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,9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4,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482,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482,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矩形 3"/>
          <p:cNvSpPr/>
          <p:nvPr/>
        </p:nvSpPr>
        <p:spPr>
          <a:xfrm>
            <a:off x="3010680" y="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度簡明合併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5840" y="928800"/>
          <a:ext cx="8501040" cy="571500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15,5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總純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4,89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9,3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1,0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88,03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7,72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10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76,81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舉借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9,5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6,88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贖回公司債價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28,51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理財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90,97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對子公司喪失控制能力前現金流量淨影響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8,59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匯率影響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,27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減少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02,18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6,8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04,6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矩形 3"/>
          <p:cNvSpPr/>
          <p:nvPr/>
        </p:nvSpPr>
        <p:spPr>
          <a:xfrm>
            <a:off x="3100680" y="0"/>
            <a:ext cx="40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度合併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10Q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Q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35,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7,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5,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6,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9,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,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1,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7,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9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8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,8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3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,10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,4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5:59:41Z</dcterms:created>
  <dc:creator>YELIN</dc:creator>
  <dc:description/>
  <dc:language>en-US</dc:language>
  <cp:lastModifiedBy>yelin</cp:lastModifiedBy>
  <dcterms:modified xsi:type="dcterms:W3CDTF">2010-05-05T08:37:54Z</dcterms:modified>
  <cp:revision>266</cp:revision>
  <dc:subject/>
  <dc:title>HTC簡報範本(横式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文件</vt:lpwstr>
  </property>
</Properties>
</file>